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89066"/>
        <c:axId val="86438383"/>
      </c:barChart>
      <c:catAx>
        <c:axId val="97589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38383"/>
        <c:crosses val="autoZero"/>
        <c:auto val="1"/>
        <c:lblAlgn val="ctr"/>
        <c:lblOffset val="100"/>
        <c:noMultiLvlLbl val="0"/>
      </c:catAx>
      <c:valAx>
        <c:axId val="86438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89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E6F-943F-4EBA-AEA8-C1300A1C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AE9-4144-4951-8C35-1E3837DF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E47-8F24-40C4-BEA3-DAE8019FF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90D-A642-468D-A4D0-F4E0618C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69D-D126-464D-97B5-1812CE61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E55-A419-44D8-AC9D-1A6341ED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1B5-F18F-40DF-9560-F27B641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FC2-915B-4BE3-BD21-6F03735F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B817-C3AD-41C8-B35B-6B483928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BC5-1216-455F-B4FA-1F76289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C9A8-7CC6-4F57-B713-BC09B5D6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955-BC76-4264-B16A-FF8CA699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9374E-2B10-4907-B764-FFDDE039A8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